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31F-83BC-4397-8988-AE38EF58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408-0A40-4E4B-9EAF-F1C604E4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E5B-A587-4A1E-8497-26B4F509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B42-CB7A-4933-8D9B-58BF8C88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5DC-8699-4B70-BE9D-4537A548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1B8-3592-4065-B7A2-CE7FD220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45C-6026-4553-B431-0DF46D7B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322-7D33-4D18-866E-B8FC9B39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3B8-54AC-4250-8F25-1A03C92A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AF1-7962-4D82-B0EB-F2EF248F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0CA-3EE4-4808-8223-98115C86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16A-9271-449F-A4A8-1905C33C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E9AC-A6D8-4E3C-A996-D74935CCA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873" t="24002" r="21251" b="10000"/>
          <a:stretch/>
        </p:blipFill>
        <p:spPr>
          <a:xfrm>
            <a:off x="152280" y="114300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4:39:18Z</dcterms:created>
  <dc:creator>za04499</dc:creator>
  <dc:description/>
  <dc:language>en-US</dc:language>
  <cp:lastModifiedBy>za04499</cp:lastModifiedBy>
  <dcterms:modified xsi:type="dcterms:W3CDTF">2009-03-02T14:39:27Z</dcterms:modified>
  <cp:revision>1</cp:revision>
  <dc:subject/>
  <dc:title>Slide 1</dc:title>
</cp:coreProperties>
</file>